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98C-4416-4D87-BB52-054D0763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955-924A-4EE1-AB19-F4A691A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A88-F98F-4725-BB95-E1E81A5C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685-0F14-4FD8-BE27-D300E89D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FF6-8C37-4613-9193-714F563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423-1187-4F80-8B1F-6AB739F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2E7-E9FB-4572-AB48-EF4A6CF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FED-7FC8-4699-ADAD-44BC701C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215-E135-4588-A3D8-CB82673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ED-4043-4531-82C8-C7C38AF4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22D-AB75-4871-A18B-6CFDF15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B01-5886-4CDC-A472-66DED9D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197-3245-40A2-A1E5-443BCA98B1AA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30492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Impact"/>
              </a:rPr>
              <a:t>Types of Practi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371600"/>
            <a:ext cx="74358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After the learner has attempted the skill after being instructed (presentation of practice) they now need to spend time developing and refining the movement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coach or teacher has to decide the best type of practice to use to ens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earning actuall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Motivation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atigue does not limit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variable factors are the periods of active work and recovery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63640" y="457200"/>
            <a:ext cx="68468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assed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006560" y="1413000"/>
            <a:ext cx="8137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mic Sans MS"/>
              </a:rPr>
              <a:t>Involves repeated practice of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mic Sans MS"/>
              </a:rPr>
              <a:t>Little or no recovery periods between blocks of t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590920"/>
            <a:ext cx="7210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kills are discrete or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is well mo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is experi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former has a high level of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Must be careful to avoid boredom, fatigue and over-training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380880"/>
            <a:ext cx="71341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Distributed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1371600"/>
            <a:ext cx="795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volves repeated practice of skills with a recovery period before repetition of skill or development of a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ecovery period may involve some form of activity or mental rehearsal, feedback, or simply time to refocus and motivate per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232080"/>
            <a:ext cx="758340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ccff"/>
                </a:solidFill>
                <a:latin typeface="Comic Sans MS"/>
              </a:rPr>
              <a:t>Ideally used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kills are new and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petition of gross skills / physically deman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ow levels of motivation / f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former has short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covery period is needed for feedback /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Must be careful to avoid de-motivation, loss of concentration, ill-discipline within group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835280" y="692280"/>
            <a:ext cx="66992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Variable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2895480"/>
            <a:ext cx="6613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volves coach using a mixture of both massed and distributed practice within on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his will help to maintain the interest and motivation  levels of the performer and limits the effects of 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63640" y="189000"/>
            <a:ext cx="68342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ental 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1125360"/>
            <a:ext cx="736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Involves the cognitive rehearsal of a skill without physical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articularly useful as it may be used before, during and after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The performer attempts to create a picture in their mind of themselves carrying out the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Also referred to as ‘mental rehearsal’ or ‘imager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Two ways they can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4292640"/>
            <a:ext cx="388944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from within completing the action or in the situation and consequently creating a kinaesthetic feel of the actual mov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4221000"/>
            <a:ext cx="3627720" cy="271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Involves the performer seeing themselves as if they were a spectator or on film. They actually imagine watching themselves performing the ski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1:01:50Z</dcterms:created>
  <dc:creator>Marcellin College</dc:creator>
  <dc:description/>
  <dc:language>en-US</dc:language>
  <cp:lastModifiedBy>sullivang</cp:lastModifiedBy>
  <dcterms:modified xsi:type="dcterms:W3CDTF">2011-05-21T23:55:23Z</dcterms:modified>
  <cp:revision>2</cp:revision>
  <dc:subject/>
  <dc:title>Slide 1</dc:title>
</cp:coreProperties>
</file>